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D704-B0D2-4D4E-B764-06B2D931D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73A2-A1AC-437B-A12A-BCC6FA5CA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288B-03A8-4B1A-BEEB-EE72C0089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гисане академске студије фарм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951440" y="5516640"/>
            <a:ext cx="38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р Ана Барјактар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1835280" y="177336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А ТЕХНОЛОГИЈ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258920" y="296856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ТОНИЧНИ РАСТВОРИ И ИЗОТОНИЗ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29600" cy="29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 ПРИМЕНЕ И КОЛИЧИНА ЛЕКОВИТОГ ПРЕПАРАТ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ређују потребу за изотоничношћу раств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који нису изотонични изазивају иритацију ткива, отицање и бол при апликацији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ТОНИЗАЦИЈ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Ph.Jug. I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општем пропису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 IV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вољена одступања од изотоничног раствор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± 20% за инјекције и ± 10% за инфузиј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з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кутане инјекциј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малог волумена и није неопходно да буду строго изотонич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ли се изотонизацијом смањује бол при апликациј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з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мускуларне инјекциј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 да буду изотонични или благо хипертонични, да помогну пенетрацију у околна ткив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836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ТОН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5760" y="2060640"/>
            <a:ext cx="87789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за инфузиј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најчешће великог волумена и треба да су изотонични. Када је неопходно, хипертонични раствор малих запремина може се применити полако у вену; хипертонични већих запремина примењени помоћу централних венских катетера, апликовани у велике вене - нпр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a c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ће раствор бити брзо разблаж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з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текалне инјекциј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трого изотонични, у противном и мале запремине хипер- или хипотоничних раствора могу изменити осмотски притисак малог волумена цереброспиналне теч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2060280"/>
            <a:ext cx="84358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за оч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ло брзо се разблаже сузама па не захтевају строгу изотоничност, али је пожељно да буду изотоничне због смањене иритације; могу бити благо хипертонич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 за оч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углавном изотоничне, јер се користе у великим количинам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за нос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жељно је да буду изотонич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з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нтералн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талмолошк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мену треба да су изотонични кад год је то могућ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423880" y="1341360"/>
            <a:ext cx="38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ТОН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ТОН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фармакопејским прописима изричито се захтева да инјекције буду изотоничне са крвним серумом ако се апликуј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централни канал кичмене мождине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ентрикуле мозг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шупљине зглобов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штану срж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чну шупљину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 инјекције у појединачној дози већој од 15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тонизација хипотоничног раств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864216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ТОНИЧАН РАСТВОР + СРЕДСТВО ЗА ИЗОТОН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lang="de-CH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ТОНИЧАН  РАСТ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изотонизацију су: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, KN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лукоза, борна киселина- само за офталмолошке препара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средства за изотонизацију зависи од физиолошке подношљивости, начина апликације и компатибилности са лековитом супстанц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 средства за изотонизацију се може израчунати помоћу рачунских и графичких мет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7280" y="907560"/>
            <a:ext cx="621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тода соног еквивалента </a:t>
            </a:r>
            <a:r>
              <a:rPr b="1" i="1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.  Jug. I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створ са једном супстанц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створ са више супстан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611280" y="5110200"/>
            <a:ext cx="8064360" cy="16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ина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супстанце потребне за израду зад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запремине раствора одређене концентрације. У раствору са више компоненти количине супстанци означене су са а, 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. . 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олумен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воде са којом количина супстанце ,, а ,, даје изотоничан раствор, односно волумен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хипотоничног раствора кога треба изотонизира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2519280" cy="7081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3" descr=""/>
          <p:cNvPicPr/>
          <p:nvPr/>
        </p:nvPicPr>
        <p:blipFill>
          <a:blip r:embed="rId2"/>
          <a:stretch/>
        </p:blipFill>
        <p:spPr>
          <a:xfrm>
            <a:off x="1692360" y="4005360"/>
            <a:ext cx="611964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1483920"/>
            <a:ext cx="84358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средства за изотонизацију волумена ,,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,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хипотоничног раство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и еквивалент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 количину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а даје исто снижење тачке мржњења раствора као и 1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 супстанце растворене у истој количини воде (податак из таблице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x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и еквивалент супстанце којом се врши изотонизација, податак из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умен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воде који са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ковите супстанце даје изотоничан раствор (податак из табел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 средства за изотонизацију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отоничног раствор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так из таблице за одговарајућу супстанцу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822240" y="646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3924360" y="5084640"/>
            <a:ext cx="1295280" cy="289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216684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 неелектролита растворен у 1000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а снижава тачку мржњења за</a:t>
            </a:r>
            <a:r>
              <a:rPr b="0" lang="sl-SI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l-SI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86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sl-SI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l-SI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,858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sl-SI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 се израчунати број грама неелектролита потребан за израду 1000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отоничног раство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 : 1,86 = x : 0,5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2/1,86 </a:t>
            </a:r>
            <a:r>
              <a:rPr b="0" lang="sl-SI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0,279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r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елативна молекулска мас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грама неелектролита потребан за припрему 100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отоничног раство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042920" y="1104840"/>
            <a:ext cx="69501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вање из моларне концентр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own Arrow 3"/>
          <p:cNvSpPr/>
          <p:nvPr/>
        </p:nvSpPr>
        <p:spPr>
          <a:xfrm>
            <a:off x="4284720" y="2924280"/>
            <a:ext cx="268200" cy="57600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Straight Arrow Connector 6"/>
          <p:cNvCxnSpPr/>
          <p:nvPr/>
        </p:nvCxnSpPr>
        <p:spPr>
          <a:xfrm>
            <a:off x="5219280" y="5373720"/>
            <a:ext cx="86580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TextBox 7"/>
          <p:cNvSpPr/>
          <p:nvPr/>
        </p:nvSpPr>
        <p:spPr>
          <a:xfrm>
            <a:off x="6227640" y="5516640"/>
            <a:ext cx="26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 изотон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3"/>
          <p:cNvSpPr/>
          <p:nvPr/>
        </p:nvSpPr>
        <p:spPr>
          <a:xfrm>
            <a:off x="539640" y="1197000"/>
            <a:ext cx="8064720" cy="54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е израђује изотоничан раствор који садржи електролите не сме се занемарити дисоцијација електролита у воденом раствору јер снижење тачке мржњења зависи од броја чест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грама електролита потребан за припрему 10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отоничног раст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јона које даје један молекул електролита у воденом раствор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2803680" y="2565360"/>
            <a:ext cx="2560320" cy="6937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2843280" y="3645000"/>
            <a:ext cx="209844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468360" y="1341360"/>
            <a:ext cx="8280360" cy="31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Осмоз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је процес дифузије растварача кроз полупропустљиву мембрану из средине мање концентрације у средину са већом концентрациј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Промена осмотског притиска узрокује поменуту дифузиј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Тонично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је мера осмотских притисака два раствора раздвојених полупропустљивом мембра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Осмоза — Википедија"/>
          <p:cNvPicPr/>
          <p:nvPr/>
        </p:nvPicPr>
        <p:blipFill>
          <a:blip r:embed="rId1"/>
          <a:stretch/>
        </p:blipFill>
        <p:spPr>
          <a:xfrm>
            <a:off x="2916360" y="4149720"/>
            <a:ext cx="480060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560" y="1052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преко снижења тачке мржњења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улова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91880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	</a:t>
            </a:r>
            <a:r>
              <a:rPr b="0" lang="sl-SI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	</a:t>
            </a:r>
            <a:r>
              <a:rPr b="0" lang="sl-SI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Δ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t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ње тачке мржњења хипотоничног раств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а за водене растворе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 растворене супстанце у грам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r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ативна молекулска м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јона електрол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пан волумен раствор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916360" y="2349360"/>
            <a:ext cx="24476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3"/>
          <p:cNvSpPr/>
          <p:nvPr/>
        </p:nvSpPr>
        <p:spPr>
          <a:xfrm>
            <a:off x="395280" y="1413000"/>
            <a:ext cx="7921800" cy="53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2 –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ипотоничан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ст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2 –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ипертоничан раст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а количина средства за изотонизацију хипотоничног раствора се може израчунати на следећи начи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 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5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Δ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t  </a:t>
            </a:r>
            <a:r>
              <a:rPr b="1" lang="sl-SI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ње тачке мржњења хипотоничног раст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Δ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t </a:t>
            </a:r>
            <a:r>
              <a:rPr b="1" lang="sl-SI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 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ње тачке мржњења средства за изотониз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ight Arrow 4"/>
          <p:cNvSpPr/>
          <p:nvPr/>
        </p:nvSpPr>
        <p:spPr>
          <a:xfrm>
            <a:off x="3348000" y="3716280"/>
            <a:ext cx="647640" cy="217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4140360" y="3573360"/>
            <a:ext cx="227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2 -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Δ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 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2411280" y="4292640"/>
            <a:ext cx="27734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99920" y="1117080"/>
            <a:ext cx="7543800" cy="79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без примене образца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468360" y="1773360"/>
            <a:ext cx="8496360" cy="67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Natrii          126 mmol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ii            15 mmol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e pro injectione 100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f solutio isotonica et sterilisata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0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S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manum med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sr-Latn-R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Cl</a:t>
            </a:r>
            <a:r>
              <a:rPr b="0" lang="sr-Latn-R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NaCl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NaOH + HCl → NaCl + H</a:t>
            </a:r>
            <a:r>
              <a:rPr b="0" lang="sr-Latn-R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:  1   →  1                                   1     :     1  →      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6</a:t>
            </a:r>
            <a:r>
              <a:rPr b="0" lang="sr-Latn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ol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126 → 126 </a:t>
            </a:r>
            <a:r>
              <a:rPr b="0" lang="sr-Latn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o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              126</a:t>
            </a:r>
            <a:r>
              <a:rPr b="0" lang="sr-Latn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ol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126 →  126 </a:t>
            </a:r>
            <a:r>
              <a:rPr b="0" lang="sr-Latn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o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0" lang="sr-Latn-R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Cl</a:t>
            </a:r>
            <a:r>
              <a:rPr b="0" lang="sr-Latn-R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CaCl</a:t>
            </a:r>
            <a:r>
              <a:rPr b="0" lang="sr-Latn-R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(OH)</a:t>
            </a:r>
            <a:r>
              <a:rPr b="0" lang="sr-Latn-R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HCl → CaCl</a:t>
            </a:r>
            <a:r>
              <a:rPr b="0" lang="sr-Latn-R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0" lang="sr-Latn-R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:  2   →  1                                   1     :     2  →      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lang="sr-Latn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ol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30 → 15 </a:t>
            </a:r>
            <a:r>
              <a:rPr b="0" lang="sr-Latn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o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                        15</a:t>
            </a:r>
            <a:r>
              <a:rPr b="0" lang="sr-Latn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ol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30 →  15 </a:t>
            </a:r>
            <a:r>
              <a:rPr b="0" lang="sr-Latn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o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539640" y="1413000"/>
            <a:ext cx="8136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аставу инфузије ће се наћи поред натријум и калцијум јона још и 126 + 30 = 156 mmol/l хлоридних јона. Ову измену треба унети у рецеп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Natrii          126 mmol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ii            15 mmol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loridi      156 mmol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e pro injectione 100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f solutio isotonica et sterilisata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0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S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manum med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1341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орак -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вање потребне количине NaCl и CaCl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r (NaCl) = 58,5 g/m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26 mol : 1000 ml = x mol : 100 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0,0126 mol у 100 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ol : 58,5g = 0,0126 mol : x 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= 0,737 g Na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3"/>
          <p:cNvSpPr/>
          <p:nvPr/>
        </p:nvSpPr>
        <p:spPr>
          <a:xfrm>
            <a:off x="395280" y="1125360"/>
            <a:ext cx="849780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 (Ca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111,1 g/mol          Mr (Ca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6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 = 219,6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15 mol : 1000 ml  = x : 100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0,0015 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ol : 111,1 g = 0,0015 mol : x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665 g CaC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1,1 : 219,6 = 0,1665 g Ca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x g (Ca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6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,3294g CaCl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* 6 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зраду инфузије треба употребити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0,737 g NaC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0,3294 g CaCl</a:t>
            </a:r>
            <a:r>
              <a:rPr b="1" lang="en-US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* 6 H</a:t>
            </a:r>
            <a:r>
              <a:rPr b="1" lang="en-US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3"/>
          <p:cNvSpPr/>
          <p:nvPr/>
        </p:nvSpPr>
        <p:spPr>
          <a:xfrm>
            <a:off x="324000" y="1341360"/>
            <a:ext cx="8820000" cy="56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орак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а тоничности раст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а се врши у односу на 0,9% раствор 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9 : 100 = x : 100 ml (задата запреминa инфуз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0,9 g 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рак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вање потребне количине средства за изотониз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,9 – (А(NaCl) * m(NaCl) + А(CaCl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* 6 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) * m(CaCl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* 6 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(NaCl)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(Ca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6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 = 0,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5508720" y="1268280"/>
            <a:ext cx="792000" cy="432000"/>
          </a:xfrm>
          <a:prstGeom prst="rect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395280" y="1268280"/>
            <a:ext cx="8280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9 – (1 * 0,737 + 0,36 * 0,3294) = 0,9 – 0,855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45g 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е као крајњи резултат добије позитивна вредност то значи да се ради о хипотоничном раствору, негативан резултат означава хипертоничан раств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орак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овера одступања од изотон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9 : 100 = 0,855 : x            x 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9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вољено одступање од изотоничности за инфузије је ±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тходним прорачуном установљено је да је одступање 5% што значи да се инфузија може израдити без додатка средства за  изотонизациј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052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p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цепта наглашава да инфузија мора бити изотонична, потребно је додати средство за изотонизациј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тонизација инфузија за надокнаду електролита се врши неелектролитом, најчешће глукоз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 глукозе се израчунава помоћу њеног соног еквивал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(глукозе) = 0,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лукозе = 0,045 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 = 0,25 g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коз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 (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козе) 180,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,2 :1 = 0,25 :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0013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1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односно 1,3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ol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1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ol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413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Natrii          126 mmol/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ii            15 mmol/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loridi      156 mmol/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ucosae     13,9 mmol/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e pro injectione 10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f solutio isotonica et sterilisata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S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manum med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2556000" y="4292640"/>
            <a:ext cx="3744720" cy="1440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9152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гативна својства раств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250920" y="1557360"/>
            <a:ext cx="864216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арањем неке супстанце у одређеном растварачу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 насталог раствора се мењају у односу на чист растварач. Присуство честица у раствору узрокује снижење напона паре што условљава повећање температуре кључања и снижење температуре мржњењ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а у односу на чист раствар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гативна свој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а убрајају с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44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отски притис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44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ње тачке мржњ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44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 тачке кључ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44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ње притиска па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44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4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е само од укупног броја честица у раствору независно да ли су јони, молекули или мешавине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000" y="112500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ТОНИЧНИ РАСТВ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3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отски притисак је повезан са проласком кроз физиолошке мембр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тонични раствор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ден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и једне или више супстанци, који имају исти или приближно исти осмотски притисак односно снижење тачке мржњења као крвни серум, сузна течност и остале телесне течнос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ичност раств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е течности имају исти осмотски притисак и снижење тачке мржњења као и 0,9% раствор натријум-хлорида (физиолошки раствор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оосмотски раствор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 исто осмотско деловање, тј. иста колигативна својства као 0,9% раствор натријум-хлорида (физичко-хемијски поја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отоничан раствор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 исто осмотско деловање, тј. иста колигативна својства са телесним течностима (физиолошко-клинички поја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ње тачке мржњ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гативно својство које се најлакше, прецизно и економично одређује и користи се за експериментално одређивање тоничнос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ње тачке мржњења крвног серума, суза и 0,9% раствора натријум-хлорида изно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и раствори који мрзну на -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ају осмотски притисак који одговара телесним течностим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тонични раств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4358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ипотоничан раствор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 снижење тачке мржњења мање од 0,52 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ижи осмотски притисак од крвног серума, због ниже концентрације јона или недисосованих молекула. Зато течност пролази из раствора у еритроците  – да би се постигла осмотска равнотежа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роцити бубре и пуцају (хемоли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ЕМОЛИЗ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еверзибилан проц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тонични раств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тонични раствори (хиперосмотски) имају веће снижење тачке мржњења и виши осмотски притисак у односу на крвни серум, захваљујући вишој концентрацији јона и недисосованих молекула. Изазивају излазак течности из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итроцита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лазмоли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ЛАЗМОЛИЗА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верзибилан проц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Osmotski pritisak - Wikipedia"/>
          <p:cNvPicPr/>
          <p:nvPr/>
        </p:nvPicPr>
        <p:blipFill>
          <a:blip r:embed="rId1"/>
          <a:stretch/>
        </p:blipFill>
        <p:spPr>
          <a:xfrm>
            <a:off x="684360" y="1628640"/>
            <a:ext cx="78292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0</cp:lastModifiedBy>
  <dcterms:modified xsi:type="dcterms:W3CDTF">2022-11-01T10:59:36Z</dcterms:modified>
  <cp:revision>166</cp:revision>
  <dc:subject/>
  <dc:title>Slide 1</dc:title>
</cp:coreProperties>
</file>