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871-AE25-4E19-9DA5-C62C4D592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048-0342-4EA3-9260-93007B38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7ED-3B31-4A78-AC96-BA4B8DA8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1394-B3F3-4CB9-A2DE-1E832F0A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D083-CCE9-421A-A195-1748A66B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CF17-B171-438A-9A01-72A290AB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FEC8-FC87-4B56-B4C9-C9EE1C76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069-AEE7-4805-A2F9-6FD468D3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BC9-B1C9-4B02-ACCE-FD83265C2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F84-6886-4E0E-B1A3-4C7BD0907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4A1A-689E-4AE5-ABC2-3E7F3478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8C8B-ACAF-41EB-9E66-13081261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DA72-4CB6-4A09-9EBF-6AB8FB7B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2801-7AE8-45F4-911D-6F7813ADA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6D95-76AF-4207-B097-328A7C9E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F362-88F0-4151-989C-6A43902A1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ПРЕПАРАТ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C U L A R I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71640" y="1125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606920" y="530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вискози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повећање вискозитет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ужено деловање услед успореног отицања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паног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ње биолошке расположив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блажавање механичке иритације корне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средстава за повећање вискозитет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целулоз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м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хидрокси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хидроксипропилм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натријум-карбоксиметилцелулоза), синтетски полимер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A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винил- алкохол, ПВП - поливинил-пиролидо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и вискозитет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– 25 cps; max. 50 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заштите стерилног садржаја вишедозног препарата у току чувања и употребе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е треба да задовољи добар конзерван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ирок спектар антимикробног делов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зо и дуготрајно деловање на собној температу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не изазива алергију и сензибилизацију 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емијски и физички компатибилан са амбалаж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оксични и физиолошки подношљи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зависног деловања 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511344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зерванса у капима за о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3000" y="1700280"/>
          <a:ext cx="8650080" cy="4726080"/>
        </p:xfrm>
        <a:graphic>
          <a:graphicData uri="http://schemas.openxmlformats.org/drawingml/2006/table">
            <a:tbl>
              <a:tblPr/>
              <a:tblGrid>
                <a:gridCol w="2162160"/>
                <a:gridCol w="2162160"/>
                <a:gridCol w="2308320"/>
                <a:gridCol w="2017440"/>
              </a:tblGrid>
              <a:tr h="64116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ста конзерван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трациј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на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редно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алконијум-хлори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BA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% - 0,0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60% </a:t>
                      </a:r>
                      <a:r>
                        <a:rPr b="1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ерцијалних препарата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+ 0,01% ED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илмеркури-нитра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борат, -ацета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% (0,00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 – 7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бутано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– 6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ропил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бен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+1); plv. conserva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хексидин-ацета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% – 0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иксин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сулфат + 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USP U + 0,0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MONAS </a:t>
                      </a: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ап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септичним условима у комори са ламинарним протоком ва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се растварају или суспендују у делу вехикулума и допуне растварачем до прописане запрем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типа раствора се филтрирају кроз бактериолошки филтер у стерилну бочицу са капаљ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могуће изврши се стерилизација засићеном воденом паром под прити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Ph. Jug. V вишедозно паковање може да садржи највише 1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а сигнатура са ознаком рока у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без конзерванса морају бити у једнодозном пакова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ишедозних паковања мора бити назначен употребљени конзерванс и његова 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0 дана након отварања, а за магистрално израђен препарат 5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 дуже од 4 недеље након отва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 од полимерне пластике или стак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ној температури, заштићено од директне свет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капи за оч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ст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чка онечишће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илнос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честица чв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 супстанци  у  капима типа суспензија (90% честица мора бити &lt; 25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а &gt; 25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јвише две од ових могу бити маx. 50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иједна &gt; 90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бистри, водени раствори намењени за прање или купање ока или за натапање завоја за о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тонич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стабилизацију и подешава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у вишедозним паковањи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озна паковања: маx. 2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еднодозна паковања (употреба само једн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шедозна паковања (рок употребе 4 недеље након отварањ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хируршких интервенција и повређеног ока примењују се једнодозна паковања, без конзерван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е масти, кремови или гелови који се примењују у коњуктивалну врећицу и на рубове очног капка. Садрже једну или више лековитих супстанци које су растворене или дисперговане у одговарајућој подлози и имају хомоген изглед. Подлога не сме да иритира коњукт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(обично садрже вазелин, течни парафин и/или ланолин или ланолинске алкохо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оге са водом (најчешће емулзоиди типа В/У и У/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органским хидроколоидима (хидроге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C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P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ривати полиакрилне кисели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подлоге за масти за оч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ocul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unguenta antibiotic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поручује се употреба подлога са полиалкилсилоксанима због изражене хидрофобности и полиетиленгликолима због надражајног дејства на слузницу 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стан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стима за о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дријатици, миотици, локални анестетици, кортикостероиди, антиби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за очи садрже конзерванс по потре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 у односу на капи за очи: дуже задржавање на месту примене и продужено дел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и паковање маст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844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у асептичним условима са стерилним прибором, супстанцама и по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метода левиг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: мале, савитљиве, стерилне тубе од алуминијума, полиетилена или ПВЦ-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о паковање масти за очи ј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Ph. Jug. IV и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Ph.Eur. 6.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Eur. 6.0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шедоз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а до 4 недеље након отва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46748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лни препарати течне, получврсте или чврсте конзистенције, намењени за примену на очну јабучицу и/или коњуктиву, као и за апликацију у коњуктивалну врећицу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Yug. 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ефекат у офталмологији остварују и раствори за контактна сочива, аеросоли, инјекције и таблете за 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400536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68360" y="486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препарати се примењују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 и дијагностици обољења 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получврстих препарата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– техника мембранске филтрације или директне ино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препарата типа суспенз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ти захтеви као за капи за очи типа сусп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чврсти или получврсти препарати одређене величине и облика, намењени за примену у коњуктивалну врећицу. Састоје се из резервоара лековите супстанце који је уграђен у матрикс или је обложен мембраном која контролише ослобађање. Лековита супстанца која је више или мање растворљива у физиолошким течностима, ослобађа се у одређеном временском период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ост и уједначеност садржаја лековит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 стерилну амбала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игнатури мора да буде назнач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упна количина лековите супстанце по једном инсерт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ина лековите супстанце која се ослобађа у јединиц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фталмолош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I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ogutt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п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с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y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е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фталмолош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Eur.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6.0, 7.0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drop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lotion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 for eye drops and eye lotions (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и лосионе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solid eye preparation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talmic insert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ogut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водени или уљани раство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или суспензије једне или више лековитих супстанци, намењене за укапавање у о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 E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добијања стабилнијег препарата, он може бити формулисан у чврстом облику који се непосредно пре употребе раствара или суспендује у одговарајућем стерилном раствар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 за инјекције и неутрална уља (рицинусово уље, олеил-олеат, триглицериди средње дугог лан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ски захтеви за капи за оч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ближна изотоничност и еухидричност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едности приближне физиолошким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стрина за растворе и величина чврстих честиц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спенз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мално терапијско деловањ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билност препарата за време декларисаног рока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илност препарата током декларисаног рок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а подношљив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у најчешће носилац дејства капи за очи: антихистаминици, кортикостероиди, локални анестетици, мидријатици, миотици, антимикробни лекови (антибиотици, антивиротици, фунгициди), дијагностичка сре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пијенс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апима за о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шавање тоничности и вискоз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подешавање или стабилиз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повећање растворљивости акт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стабилизацију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916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пис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пи за очи су приближно изотоничне са сузном течношћу и имају снижење тачке мржњења од – 0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до – 0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могу бити и благо хипертонич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је обавезна за хипотоничне растворе, капи које се примeњују на оперисано око, инфламирано око и капи за хронич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орна киселина, натријум-хлорид, калијум-нитрат, глукоза, натријум-сулф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побољшања стабилности, подношљивости или растворљ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прописане пуфероване капи за очи, вредност pH се подешава на 5,5 до 7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шавање pH вредности је подређено стабилности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pH 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сфат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арни и секундар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сф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оратни пуф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 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Na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бо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1T09:57:30Z</dcterms:modified>
  <cp:revision>129</cp:revision>
  <dc:subject/>
  <dc:title>Slide 1</dc:title>
</cp:coreProperties>
</file>